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D460-4E54-4E24-91C7-FE388D70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B2F4-AD09-4B4A-BD97-8D69FD3D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884F-E196-47BD-9B66-83B9E79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0803-F077-410A-A8DC-714E2FC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A58D-9284-47D3-B299-9CAE635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4384-CC50-426E-B4B6-7AF6DC3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D625A-7DEC-436A-B77A-59B10E33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A55D-326C-4D6E-90FF-27D9A64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A178-BAEF-4FAB-9C9C-432B0258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04006-1610-497D-8D90-4615F06A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EBB61-1D4E-40E1-AD17-EFA0303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2E910-3834-4A95-8347-45FCDFBB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A31D-AEE8-4E10-B048-C8EED33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73C76-6927-49EB-8BBA-D9B6906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9894B-2C09-47C3-97D9-68083D4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CD2D3-BF28-42E6-8809-B57D32E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C54F-A82C-4668-A6A8-A4AB665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D4C0-E3E1-4FC2-8D0D-25101AF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1958B-9731-4AC5-86A7-AC4709B0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FE035-8001-477A-8E66-48276003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E3A5-C86F-4B22-A7CF-58715BC4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74F2B-0642-4F51-8E57-E8BAFBE6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F158B-552B-48DB-BA71-6B92B85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CFF68-5AA0-4E53-AFF5-D68FA8E0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FBF3-A370-497A-927B-C38722C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D3E22-780D-4801-9A5E-919AF40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5BBE-C7EE-4062-ABF6-E2A4591A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CEA48-9032-4B8A-A473-8BFD969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D71AF-40F5-4C94-8A8D-BEF134C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7644A-626C-4E2E-B12F-16B90A6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4A9-AAD4-4FEE-9312-F25CEA25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6348A-C93B-4A09-8ABE-C61D9A6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11C5-E160-4548-962D-FBBC70B6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06843-0122-418B-B1C9-A7F7CF5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7CED1-7A98-4992-A0BC-182AA089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D3801-BF7C-49D1-9FAE-A7450C4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7948-CFFA-4FB6-959A-2D27D55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52256-E619-4E49-A5DB-64E4FD0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EC51-889E-455E-804C-5E132ADD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75103-CE52-4FA6-861E-1F49FA3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297A8-CAFC-4D9E-8B6D-BDDD413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D96-3B93-4EF0-B4D0-DFF776D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83B5-478D-4582-83C4-04EABDF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E78B4-1AE7-427C-B51F-0E2D260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D23C4-CC31-492D-A289-4C2AE9F5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D860B-1F88-47DE-8419-656B8E4F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8581D-AC4E-411D-A388-B7FD4135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3B0E-9BBD-43C0-B08C-2F220AF6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12B2B-EFDB-4B9B-8E26-96A17B3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A5A70-6E6D-4ECE-A092-412FE35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329CD-E6F0-4109-B5A1-0CBBC7F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B0E88-2E69-4A05-88F6-A78F6E8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341-70B6-4F81-9DB1-DDD793A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3AAEB-2C25-495C-BEC9-C94F60C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BE76F-1E36-41D5-913B-C21B081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692C0-5297-4A7F-A49F-691C3D6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59FD1-7BAF-4BD7-BA23-5B2DC3C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899AE-DF54-4403-AAD5-0E94E4B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3662B-5181-4992-9868-3E195924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951A-5AA4-4258-881E-5AA67852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15F26-117C-4807-B5A0-57D939E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8CD7C-92CD-4D05-881C-059FDE9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25F48-6497-4723-895C-2CFD9D5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0E4-C666-4564-A94E-66C3E0C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99EA1-DED6-429E-B2ED-20CD5B7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1568F-CBEB-433F-9D47-EE7D5692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A9BCB-27A0-49E6-88F7-D0ACFF01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49130-1EFA-4533-91AE-F89265D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875AB-CEE3-4FD6-AED6-33AC339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23E19-8FE3-4716-A7B7-A015EDF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AA698-813F-4060-872E-6052410D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55875-DF42-4920-A8DB-CC7F8787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E3318-94BF-4F1F-9051-EB77F7D0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920F4-BC07-40F1-9214-7371A795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1A7-17A3-4F48-9310-2571F92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DBC3D-50A8-4281-88DA-AB57D3B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9315F-4994-4EB2-89A4-EF901C5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2844E-FEDE-471D-9B4A-EF52940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EB2C2-4FD8-4874-B993-40006C0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4FE24-74B5-4BA2-9FA1-4ED25D2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A37D3-47A5-469A-99BB-2B860D5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08F03-9418-4A7C-AB07-EED0ECF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6263C-3353-4CEE-8868-215CB60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EFF06-60E5-409A-B145-8DFA03BC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68A11-D815-4EEE-9CFB-0DC9A7D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D4A-1307-4232-90B3-3A38F95F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A0829-21AE-4946-9F87-BEEE7CC6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FF417-B7EE-40C2-B8E0-201C20A0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0DB8B-6BE5-4AB2-B95E-28B528C1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5E318-F265-4067-A74E-FE6B354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57300-EB48-41C8-8E80-CA5BE1A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2B31A-DCCE-48F5-A22C-76056C0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F9590-4ABF-466D-A539-504F1D5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8379A-5123-4721-8683-3D8B7E4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FAA12-9A45-4BD6-94EB-90633AB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4A593-B3C0-42B8-80E7-6E7C10C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DE5-FF1E-4181-B644-B4113C7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E1517-4E02-47B7-A60D-9A4F2BB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1D514-1228-4611-ABFD-077DB198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EAC5E-91B3-4D24-A75D-51C04A52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F0406-C7A9-40CA-9A27-5C257367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6E46D-463E-4377-A28F-A0FC433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1BB48-B05A-4096-8125-428D30C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6980D-A50F-46ED-9A57-62F299C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FB341-FCFF-421F-816A-4A2851DB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91401-BFFC-41B7-954D-AC01697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0BB29-D646-4577-AD9A-031E662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E64-52B3-4586-B68F-63D6967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EC4F7-C05C-4240-980C-B041FF0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0419B-B5E0-4369-B61A-E5E2E4A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B17DE-4922-4A32-854C-61660EE0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FEB98-1FB1-40D0-82A9-3728B96A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86C0C-4E41-4EC4-887F-25D91B1B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B580C-1913-4A11-BD09-D9D0FB1F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72D62-29CF-4B50-82D0-910C8573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6296E-4810-4631-86D3-1C5C4FC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BAC11-6CE3-4A84-A597-625820C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DBC45-658B-40BA-9C5A-75EE77E7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8A1-A65B-4409-8F43-D8EE30E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125D3-D06C-411B-82BD-5EB2CD8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D1A25-ABEA-425A-8E86-EF79F57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A2844-C17A-4E5E-B712-A121B64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38894-64A0-4BC4-82B2-91DA2BF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EAC5B-28F5-44CE-90F5-F8D81551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B015A-F925-4866-B3F3-E6EE3854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6EE1C-DF88-4B9B-915E-4D7ECCC4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10D70-C41B-4774-9D68-057E2A94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E5A4C-26F7-45AA-AFF9-D9CFA95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BE468-58F4-4937-8A5D-89F4130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144-4127-4C97-9CEC-F626372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E14E6-8005-407E-8802-054BE571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FA5BC-ECFA-424E-8872-2B08CF7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F84BF-8799-4402-BB86-AA604EE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72FC3-99AC-4BA9-86EC-81BE5E1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28887-E444-488E-80A4-293D64B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E5776-375E-4858-9F95-4EA48AF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27041-637C-417C-B6FE-CAC16989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FAE7D-07C9-4146-938D-C3049819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B676C-0176-4A38-8190-285E6DF3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23723-7E73-478F-83F3-970B7B9D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5A8-0F31-41CE-AE3A-6CD93D43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AC9D6-8CA5-49D4-8282-9302D6B5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AF2AF-392F-4E42-ACD1-D90229C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07626-75B6-4451-B6CD-851A6303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E7F7D-7670-46C8-BB75-B8B2695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D08E0-8785-4B81-A3D2-BC3EDB1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8EC73-4E4D-47C8-BD82-FA9C65D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8EE18-9C9F-4C8F-80A5-515C66E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4019A-2584-4D05-9B9C-115FA18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B86CB-08D4-4391-AB27-2C74500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80728-EFE3-400C-A541-96FB20AB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DAD-ECD9-42FB-8C81-487381C5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860AE-D342-4484-90C6-50C9A920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B6920-7C37-4BC2-B583-CA81277D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9E2C8-949C-40B3-93DF-FED19856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92FC3B-3E7E-4B9D-A4A2-AB8CCA1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2EDC7-B868-47AE-A696-B4689EC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C5FE7-55FA-4006-9171-F94D851C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B9C0C-1978-4EAB-9EDF-C4ECE33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F9406-BDE3-4379-8124-550F31B5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65EAB-6D78-4FAE-9F2D-15963A0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B8E0A-6E02-46A7-854F-8EF32047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C3BF-AFFD-4294-A537-7E47A7A0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BB736-865F-4393-911D-F92E7A9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76910-7769-4398-ADC2-D003BF28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474C6-8DA5-4C81-8A35-39C066D3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A8599-6EA8-4F38-836A-83A81DD3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44BC1-542B-4F9E-AC38-BB50247B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4E926-5CA8-460A-962C-ABF8AB99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7B80F-87EC-4D3B-A470-380A2DCB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F1A85-255E-4303-97AA-364020E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27432-5270-4DA3-9243-7EB8C0F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6C8A3-70F0-474A-BC3E-0C495C58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DD21-14EB-4374-B347-370517E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5B0B7E-0F98-4C55-88C5-33AA165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A3E9B-6ED6-48DC-A429-3D2A3D7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D35C3-08E8-4FE1-BF0B-69F35D5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9635C-B96B-43D0-98DD-4F252BED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3496C-1BA3-46D4-A8F5-C6E05CE5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39F924-8118-4576-9321-A2F0C2FC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6EA15-3292-4031-80C5-0AA1F5E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859B4-FD84-4E35-B834-D71FB73E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09F92-6F45-47D4-88E4-D17AD3EA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EBF716-4F91-497B-8921-09BDC56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E26-065C-478A-B30C-D29D1A4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653D6E-9917-4277-A776-D801D0D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83C4C-C4D5-4DCA-A10E-F7952B1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59E3F-F8DB-44DD-B3A6-8751F39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A0FFF-2F4E-4B20-ACDE-86D0E49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E962C-08D2-4BA3-8C91-EFC8A6C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A3FF44-A162-400A-AC51-CB41AF78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3B4F6-C29D-4011-888D-C2E21C38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82A27-D7F2-4B79-B750-40D64DF3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70D058-41D7-4332-8E96-A223D10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FF067-00C5-4752-A460-0E95D5B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2BF9-BB02-463C-9C85-507D722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94F97-D624-4EF7-B8F3-71FCB40E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11151-3CBE-48BD-B1BA-1FEC8AE0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84A8D-B3C9-426B-8169-9FCF121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4DCE1-9C88-4D4B-A741-192CC20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20F44C-AB7E-4712-A61B-844199F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C3689-6FC3-4F41-9C66-3CEBEEA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F8859-3217-4234-9A37-DBC839B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9D85A-76B2-4832-A9C3-2847B02E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3DE09-519C-49C4-A260-76243B44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1A2D-39A8-45FE-B6CD-E7AC096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14E6-8EBE-4EA4-B57F-DE57399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1065-609F-42D8-BB23-8A1E5609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EF11-7A9C-406E-9ACD-5B4D5FF3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3485-3301-4862-950A-0C5CA31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DCC4-3A3C-4F18-9268-0A8C82F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FE54-26E4-49E5-B1BD-DAFCC14E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16C-6A2E-4072-AF72-AAA51EB5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392B-E1A5-44E3-8864-3352B675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D383-A3B5-443B-A813-3AEB0FA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0120-5A6D-4A82-9CB5-CD51C5A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02B9-451A-48AB-8289-D542DA3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969F-82CE-4625-BAC9-E9D9144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12AA-E3BB-463B-A11C-1FA22923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847E-CC48-4E86-A1C1-D6C99F8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EB91-C81C-4CF2-B92A-BB223C1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8D34-609D-4CEB-A54F-4FA23C5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F9EE-55B6-439E-AEA0-FD4B15A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6F54-FAAE-4776-9ED0-7EAF24AD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210C-1124-4327-807B-3B11BBD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BC3C-3BFE-456C-A376-B2CCEB80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A3ED-1A54-46EF-826D-51851A3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6417-A7F2-4333-A87E-1B76C2D1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0C5A-AD55-4440-BD36-10F7FC56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046B-892E-446D-94F8-DCE6517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4E6A-E33D-4C6F-B64F-297D0C9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96E4-D41B-45ED-B111-E1D3889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9933-758E-44BB-9256-70B6678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BA28-CF8B-4DFA-9766-689F6DD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AC46-8406-49F8-83F8-6D7C23B4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F55B-0F43-4420-80D1-B2F2D3ED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ADD4-B454-43AB-9E1C-03B79AEF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C616-2F16-4F67-9B4C-CE51DDA3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2287-DF8B-4A3F-AE3D-D02E8DF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B813-13FC-4C91-9872-6AA9414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0E4C-38E6-49EA-93A4-504E1066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118A-563E-4B5B-B10D-19B6EC8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B2A2-BB06-462F-AC07-B0341FDD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D366-D878-413C-AA75-FCE0724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969C-C5F2-44CA-9BEC-3BDDB5C3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40A6-BDD5-4910-8A6D-BB088E0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9503-6076-48B7-B759-A915D5A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A0B1-1ACD-450A-B9A0-9EBCB9DF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D05C-BC48-4F86-B95C-FA136002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3C6F-C577-4E03-B1A1-B8CB4A96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1DDF-CBF6-4FD4-9B51-15B6AD11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6938-7F75-4700-AF2D-D6325FA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6170-2414-40F5-9AD9-D2BEE34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A520-558A-451B-85FA-A710F54D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968E-9B03-40CD-97FE-92BA259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1041-EB37-4883-BCAF-77E12A7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4B80-BE2E-46A8-B7EA-233B81C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B32B-6D59-49AF-9726-A7E942B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4F2E-4749-47B3-9FE4-EFC9341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FC4A-141B-4353-850E-F87AC3C4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6B32-E2E5-4907-83ED-A99CFC3F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9EAF1-214F-4F60-9A66-B0B4A945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31F3-3C01-4360-BC30-EBBE558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2FCD-220B-42DB-A3AA-180FADE4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8FFF-B185-440C-8DB1-D007DD6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33A99-2246-47D8-B5C6-3F2853EB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27B3F-0DFA-4BEF-9712-9A4D907E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7E5C-362D-41B6-84AB-F9CC307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1B24-027B-40F0-929C-ECE9F7B9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09F8-FB5F-461C-A864-9A8A66D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2234-2074-4905-A2F4-CD151F8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06A9-4106-4CE4-8B0D-CA9BB788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DD9CD-24FD-4212-AA54-B4D9B9D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398B-0C1A-4CAB-8DDF-F91A7B56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A7AD-22A5-4C7B-B838-8392957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4CAF-C2BA-4D03-89FF-3376225A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45EA-0CC3-490D-B38B-D197617AA21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C20-7407-4CF3-B85C-A6ECFCD35EF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2EE-5FCC-43FF-B4E8-ED47D89EFE1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7AD-E978-4B00-9EC5-2544DC3D894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B0C9-2581-4094-B504-18C2FF5823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009-F3D1-4D30-8916-0B632858BA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476B-9E0E-4138-8A97-FF66608C90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2E0-D8EF-47C1-AC95-11E935CCF7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2CF-82BE-49BA-9D26-CE51AD5707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D38-B702-4DA9-9469-467563F78C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E96-CF50-42BC-88D5-3CCEF6B458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BDB1-D7C0-4DEC-B68C-2A3350BAA1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205-5D36-4045-8E1B-7FBF6872D3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CC7B-DB2F-4F42-83B2-8043ACD86D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957C-465C-4D4A-B927-27A421431A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5CB-82D1-4D37-A9B3-16C81A6624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C1EC-428E-4E9C-BEA9-929D79F10DF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9B5-0925-460C-8D37-75ED5154EA2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389-3BE5-4944-98C9-D31DF2CEE0B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25F-DBBA-4650-BC9D-1DEFDCEFD97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ACB-9DB3-457B-A185-546DAB57EB8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59F-562C-4FEA-9A4D-ED401F3D8FF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66B-6FBE-40FB-99DA-302C559274D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8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250920" y="2168640"/>
            <a:ext cx="85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分母分数的连加、连减、加减混合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87756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3684600" y="1666800"/>
            <a:ext cx="48243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剪纸中的数学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加减法（一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同分母分数加减法的逆向推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1566720" y="15573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括号里填上适当的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对象 1" descr=""/>
          <p:cNvPicPr/>
          <p:nvPr/>
        </p:nvPicPr>
        <p:blipFill>
          <a:blip r:embed="rId2"/>
          <a:stretch/>
        </p:blipFill>
        <p:spPr>
          <a:xfrm>
            <a:off x="2222640" y="2475000"/>
            <a:ext cx="2863800" cy="863640"/>
          </a:xfrm>
          <a:prstGeom prst="rect">
            <a:avLst/>
          </a:prstGeom>
          <a:ln w="0">
            <a:noFill/>
          </a:ln>
        </p:spPr>
      </p:pic>
      <p:pic>
        <p:nvPicPr>
          <p:cNvPr id="1005" name="对象 8" descr=""/>
          <p:cNvPicPr/>
          <p:nvPr/>
        </p:nvPicPr>
        <p:blipFill>
          <a:blip r:embed="rId3"/>
          <a:stretch/>
        </p:blipFill>
        <p:spPr>
          <a:xfrm>
            <a:off x="2263680" y="3662280"/>
            <a:ext cx="3078360" cy="865440"/>
          </a:xfrm>
          <a:prstGeom prst="rect">
            <a:avLst/>
          </a:prstGeom>
          <a:ln w="0">
            <a:noFill/>
          </a:ln>
        </p:spPr>
      </p:pic>
      <p:pic>
        <p:nvPicPr>
          <p:cNvPr id="1006" name="对象 9" descr=""/>
          <p:cNvPicPr/>
          <p:nvPr/>
        </p:nvPicPr>
        <p:blipFill>
          <a:blip r:embed="rId4"/>
          <a:stretch/>
        </p:blipFill>
        <p:spPr>
          <a:xfrm>
            <a:off x="2259000" y="4741920"/>
            <a:ext cx="2916360" cy="865080"/>
          </a:xfrm>
          <a:prstGeom prst="rect">
            <a:avLst/>
          </a:prstGeom>
          <a:ln w="0">
            <a:noFill/>
          </a:ln>
        </p:spPr>
      </p:pic>
      <p:sp>
        <p:nvSpPr>
          <p:cNvPr id="1007" name="矩形 10"/>
          <p:cNvSpPr/>
          <p:nvPr/>
        </p:nvSpPr>
        <p:spPr>
          <a:xfrm>
            <a:off x="389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14"/>
          <p:cNvSpPr/>
          <p:nvPr/>
        </p:nvSpPr>
        <p:spPr>
          <a:xfrm>
            <a:off x="317016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15"/>
          <p:cNvSpPr/>
          <p:nvPr/>
        </p:nvSpPr>
        <p:spPr>
          <a:xfrm>
            <a:off x="332532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0"/>
          <p:cNvSpPr/>
          <p:nvPr/>
        </p:nvSpPr>
        <p:spPr>
          <a:xfrm>
            <a:off x="755640" y="1665360"/>
            <a:ext cx="76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长的彩带，小丽用去       米，小月用去        米，还剩下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1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2" name="圆角矩形 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3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6" name="对象 1" descr=""/>
          <p:cNvPicPr/>
          <p:nvPr/>
        </p:nvPicPr>
        <p:blipFill>
          <a:blip r:embed="rId2"/>
          <a:stretch/>
        </p:blipFill>
        <p:spPr>
          <a:xfrm>
            <a:off x="5111640" y="2082960"/>
            <a:ext cx="468360" cy="830160"/>
          </a:xfrm>
          <a:prstGeom prst="rect">
            <a:avLst/>
          </a:prstGeom>
          <a:ln w="0">
            <a:noFill/>
          </a:ln>
        </p:spPr>
      </p:pic>
      <p:pic>
        <p:nvPicPr>
          <p:cNvPr id="1017" name="对象 2" descr=""/>
          <p:cNvPicPr/>
          <p:nvPr/>
        </p:nvPicPr>
        <p:blipFill>
          <a:blip r:embed="rId3"/>
          <a:stretch/>
        </p:blipFill>
        <p:spPr>
          <a:xfrm>
            <a:off x="7488360" y="2100240"/>
            <a:ext cx="468360" cy="83016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11"/>
          <p:cNvGrpSpPr/>
          <p:nvPr/>
        </p:nvGrpSpPr>
        <p:grpSpPr>
          <a:xfrm>
            <a:off x="1224000" y="3716280"/>
            <a:ext cx="3456000" cy="1887480"/>
            <a:chOff x="1224000" y="3716280"/>
            <a:chExt cx="3456000" cy="1887480"/>
          </a:xfrm>
        </p:grpSpPr>
        <p:pic>
          <p:nvPicPr>
            <p:cNvPr id="1019" name="对象 8" descr=""/>
            <p:cNvPicPr/>
            <p:nvPr/>
          </p:nvPicPr>
          <p:blipFill>
            <a:blip r:embed="rId4"/>
            <a:stretch/>
          </p:blipFill>
          <p:spPr>
            <a:xfrm>
              <a:off x="1224000" y="3716280"/>
              <a:ext cx="34560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矩形 9"/>
            <p:cNvSpPr/>
            <p:nvPr/>
          </p:nvSpPr>
          <p:spPr>
            <a:xfrm>
              <a:off x="1768680" y="4940640"/>
              <a:ext cx="179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还剩下      米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1" name="对象 10" descr=""/>
            <p:cNvPicPr/>
            <p:nvPr/>
          </p:nvPicPr>
          <p:blipFill>
            <a:blip r:embed="rId5"/>
            <a:stretch/>
          </p:blipFill>
          <p:spPr>
            <a:xfrm>
              <a:off x="2979000" y="4739040"/>
              <a:ext cx="296640" cy="86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矩形 10"/>
          <p:cNvSpPr/>
          <p:nvPr/>
        </p:nvSpPr>
        <p:spPr>
          <a:xfrm>
            <a:off x="755640" y="1665360"/>
            <a:ext cx="76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台拖拉机耕一块地，上午耕了        公顷，下午比上午多耕      公顷。这台拖拉机一天耕地多少公顷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3" name="对象 1" descr=""/>
          <p:cNvPicPr/>
          <p:nvPr/>
        </p:nvPicPr>
        <p:blipFill>
          <a:blip r:embed="rId1"/>
          <a:stretch/>
        </p:blipFill>
        <p:spPr>
          <a:xfrm>
            <a:off x="5694480" y="1625760"/>
            <a:ext cx="311040" cy="831600"/>
          </a:xfrm>
          <a:prstGeom prst="rect">
            <a:avLst/>
          </a:prstGeom>
          <a:ln w="0">
            <a:noFill/>
          </a:ln>
        </p:spPr>
      </p:pic>
      <p:pic>
        <p:nvPicPr>
          <p:cNvPr id="1024" name="对象 2" descr=""/>
          <p:cNvPicPr/>
          <p:nvPr/>
        </p:nvPicPr>
        <p:blipFill>
          <a:blip r:embed="rId2"/>
          <a:stretch/>
        </p:blipFill>
        <p:spPr>
          <a:xfrm>
            <a:off x="2198520" y="2421000"/>
            <a:ext cx="2858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9"/>
          <p:cNvGrpSpPr/>
          <p:nvPr/>
        </p:nvGrpSpPr>
        <p:grpSpPr>
          <a:xfrm>
            <a:off x="1187640" y="3573360"/>
            <a:ext cx="3803400" cy="1873440"/>
            <a:chOff x="1187640" y="3573360"/>
            <a:chExt cx="3803400" cy="1873440"/>
          </a:xfrm>
        </p:grpSpPr>
        <p:pic>
          <p:nvPicPr>
            <p:cNvPr id="1026" name="对象 10" descr=""/>
            <p:cNvPicPr/>
            <p:nvPr/>
          </p:nvPicPr>
          <p:blipFill>
            <a:blip r:embed="rId3"/>
            <a:stretch/>
          </p:blipFill>
          <p:spPr>
            <a:xfrm>
              <a:off x="1187640" y="3573360"/>
              <a:ext cx="27817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矩形 11"/>
            <p:cNvSpPr/>
            <p:nvPr/>
          </p:nvSpPr>
          <p:spPr>
            <a:xfrm>
              <a:off x="2702520" y="4798080"/>
              <a:ext cx="17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这台拖拉机一天耕地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公顷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8" name="对象 12" descr=""/>
            <p:cNvPicPr/>
            <p:nvPr/>
          </p:nvPicPr>
          <p:blipFill>
            <a:blip r:embed="rId4"/>
            <a:stretch/>
          </p:blipFill>
          <p:spPr>
            <a:xfrm>
              <a:off x="4667400" y="4581360"/>
              <a:ext cx="323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矩形 10"/>
          <p:cNvSpPr/>
          <p:nvPr/>
        </p:nvSpPr>
        <p:spPr>
          <a:xfrm>
            <a:off x="755640" y="1665360"/>
            <a:ext cx="76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满杯牛奶，小明喝了它的       ，又倒入的牛奶是这杯牛奶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现在杯中的牛奶有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0" name="对象 1" descr=""/>
          <p:cNvPicPr/>
          <p:nvPr/>
        </p:nvPicPr>
        <p:blipFill>
          <a:blip r:embed="rId1"/>
          <a:stretch/>
        </p:blipFill>
        <p:spPr>
          <a:xfrm>
            <a:off x="4938840" y="1665360"/>
            <a:ext cx="441360" cy="831600"/>
          </a:xfrm>
          <a:prstGeom prst="rect">
            <a:avLst/>
          </a:prstGeom>
          <a:ln w="0">
            <a:noFill/>
          </a:ln>
        </p:spPr>
      </p:pic>
      <p:pic>
        <p:nvPicPr>
          <p:cNvPr id="1031" name="对象 2" descr=""/>
          <p:cNvPicPr/>
          <p:nvPr/>
        </p:nvPicPr>
        <p:blipFill>
          <a:blip r:embed="rId2"/>
          <a:stretch/>
        </p:blipFill>
        <p:spPr>
          <a:xfrm>
            <a:off x="2406600" y="2405160"/>
            <a:ext cx="441360" cy="830160"/>
          </a:xfrm>
          <a:prstGeom prst="rect">
            <a:avLst/>
          </a:prstGeom>
          <a:ln w="0">
            <a:noFill/>
          </a:ln>
        </p:spPr>
      </p:pic>
      <p:grpSp>
        <p:nvGrpSpPr>
          <p:cNvPr id="1032" name="组合 4"/>
          <p:cNvGrpSpPr/>
          <p:nvPr/>
        </p:nvGrpSpPr>
        <p:grpSpPr>
          <a:xfrm>
            <a:off x="1366920" y="3608280"/>
            <a:ext cx="3371400" cy="1844640"/>
            <a:chOff x="1366920" y="3608280"/>
            <a:chExt cx="3371400" cy="1844640"/>
          </a:xfrm>
        </p:grpSpPr>
        <p:pic>
          <p:nvPicPr>
            <p:cNvPr id="1033" name="对象 5" descr=""/>
            <p:cNvPicPr/>
            <p:nvPr/>
          </p:nvPicPr>
          <p:blipFill>
            <a:blip r:embed="rId3"/>
            <a:stretch/>
          </p:blipFill>
          <p:spPr>
            <a:xfrm>
              <a:off x="1366920" y="3608280"/>
              <a:ext cx="199908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矩形 6"/>
            <p:cNvSpPr/>
            <p:nvPr/>
          </p:nvSpPr>
          <p:spPr>
            <a:xfrm>
              <a:off x="2531880" y="483336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现在杯中的牛奶有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5" name="对象 7" descr=""/>
            <p:cNvPicPr/>
            <p:nvPr/>
          </p:nvPicPr>
          <p:blipFill>
            <a:blip r:embed="rId4"/>
            <a:stretch/>
          </p:blipFill>
          <p:spPr>
            <a:xfrm>
              <a:off x="4441680" y="4588200"/>
              <a:ext cx="296640" cy="86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 10"/>
          <p:cNvSpPr/>
          <p:nvPr/>
        </p:nvSpPr>
        <p:spPr>
          <a:xfrm>
            <a:off x="755640" y="1665360"/>
            <a:ext cx="76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果园里有苹果树、梨树和桃树三种果树，其中梨树和桃树的棵数占总棵数的      ，梨树和苹果树的棵数占总棵数的      ，梨树的棵数占总棵数的几分之几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7" name="对象 1" descr=""/>
          <p:cNvPicPr/>
          <p:nvPr/>
        </p:nvPicPr>
        <p:blipFill>
          <a:blip r:embed="rId1"/>
          <a:stretch/>
        </p:blipFill>
        <p:spPr>
          <a:xfrm>
            <a:off x="4896000" y="2421000"/>
            <a:ext cx="441000" cy="831960"/>
          </a:xfrm>
          <a:prstGeom prst="rect">
            <a:avLst/>
          </a:prstGeom>
          <a:ln w="0">
            <a:noFill/>
          </a:ln>
        </p:spPr>
      </p:pic>
      <p:pic>
        <p:nvPicPr>
          <p:cNvPr id="1038" name="对象 2" descr=""/>
          <p:cNvPicPr/>
          <p:nvPr/>
        </p:nvPicPr>
        <p:blipFill>
          <a:blip r:embed="rId2"/>
          <a:stretch/>
        </p:blipFill>
        <p:spPr>
          <a:xfrm>
            <a:off x="3059280" y="3176640"/>
            <a:ext cx="441000" cy="830160"/>
          </a:xfrm>
          <a:prstGeom prst="rect">
            <a:avLst/>
          </a:prstGeom>
          <a:ln w="0">
            <a:noFill/>
          </a:ln>
        </p:spPr>
      </p:pic>
      <p:grpSp>
        <p:nvGrpSpPr>
          <p:cNvPr id="1039" name="组合 4"/>
          <p:cNvGrpSpPr/>
          <p:nvPr/>
        </p:nvGrpSpPr>
        <p:grpSpPr>
          <a:xfrm>
            <a:off x="1260000" y="4103640"/>
            <a:ext cx="4113000" cy="1809720"/>
            <a:chOff x="1260000" y="4103640"/>
            <a:chExt cx="4113000" cy="1809720"/>
          </a:xfrm>
        </p:grpSpPr>
        <p:pic>
          <p:nvPicPr>
            <p:cNvPr id="1040" name="对象 5" descr=""/>
            <p:cNvPicPr/>
            <p:nvPr/>
          </p:nvPicPr>
          <p:blipFill>
            <a:blip r:embed="rId3"/>
            <a:stretch/>
          </p:blipFill>
          <p:spPr>
            <a:xfrm>
              <a:off x="1260000" y="4103640"/>
              <a:ext cx="19717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矩形 6"/>
            <p:cNvSpPr/>
            <p:nvPr/>
          </p:nvSpPr>
          <p:spPr>
            <a:xfrm>
              <a:off x="2700000" y="5329440"/>
              <a:ext cx="179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梨树的棵数占总棵数的  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2" name="对象 7" descr=""/>
            <p:cNvPicPr/>
            <p:nvPr/>
          </p:nvPicPr>
          <p:blipFill>
            <a:blip r:embed="rId4"/>
            <a:stretch/>
          </p:blipFill>
          <p:spPr>
            <a:xfrm>
              <a:off x="5076360" y="5048280"/>
              <a:ext cx="29664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矩形 10"/>
          <p:cNvSpPr/>
          <p:nvPr/>
        </p:nvSpPr>
        <p:spPr>
          <a:xfrm>
            <a:off x="755640" y="1665360"/>
            <a:ext cx="76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一根竹竿插入河中，量得水中部分长      米，比泥中部分长      米，露出水面部分长      米。这根竹竿全长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4" name="对象 1" descr=""/>
          <p:cNvPicPr/>
          <p:nvPr/>
        </p:nvPicPr>
        <p:blipFill>
          <a:blip r:embed="rId1"/>
          <a:stretch/>
        </p:blipFill>
        <p:spPr>
          <a:xfrm>
            <a:off x="6508800" y="1677960"/>
            <a:ext cx="311040" cy="831960"/>
          </a:xfrm>
          <a:prstGeom prst="rect">
            <a:avLst/>
          </a:prstGeom>
          <a:ln w="0">
            <a:noFill/>
          </a:ln>
        </p:spPr>
      </p:pic>
      <p:pic>
        <p:nvPicPr>
          <p:cNvPr id="1045" name="对象 2" descr=""/>
          <p:cNvPicPr/>
          <p:nvPr/>
        </p:nvPicPr>
        <p:blipFill>
          <a:blip r:embed="rId2"/>
          <a:stretch/>
        </p:blipFill>
        <p:spPr>
          <a:xfrm>
            <a:off x="2549520" y="2421000"/>
            <a:ext cx="311040" cy="830160"/>
          </a:xfrm>
          <a:prstGeom prst="rect">
            <a:avLst/>
          </a:prstGeom>
          <a:ln w="0">
            <a:noFill/>
          </a:ln>
        </p:spPr>
      </p:pic>
      <p:pic>
        <p:nvPicPr>
          <p:cNvPr id="1046" name="对象 3" descr=""/>
          <p:cNvPicPr/>
          <p:nvPr/>
        </p:nvPicPr>
        <p:blipFill>
          <a:blip r:embed="rId3"/>
          <a:stretch/>
        </p:blipFill>
        <p:spPr>
          <a:xfrm>
            <a:off x="5788080" y="2344680"/>
            <a:ext cx="312840" cy="831960"/>
          </a:xfrm>
          <a:prstGeom prst="rect">
            <a:avLst/>
          </a:prstGeom>
          <a:ln w="0">
            <a:noFill/>
          </a:ln>
        </p:spPr>
      </p:pic>
      <p:grpSp>
        <p:nvGrpSpPr>
          <p:cNvPr id="1047" name="组合 4"/>
          <p:cNvGrpSpPr/>
          <p:nvPr/>
        </p:nvGrpSpPr>
        <p:grpSpPr>
          <a:xfrm>
            <a:off x="1222200" y="4076640"/>
            <a:ext cx="5005440" cy="1916280"/>
            <a:chOff x="1222200" y="4076640"/>
            <a:chExt cx="5005440" cy="1916280"/>
          </a:xfrm>
        </p:grpSpPr>
        <p:grpSp>
          <p:nvGrpSpPr>
            <p:cNvPr id="1048" name="组合 5"/>
            <p:cNvGrpSpPr/>
            <p:nvPr/>
          </p:nvGrpSpPr>
          <p:grpSpPr>
            <a:xfrm>
              <a:off x="1222200" y="4103280"/>
              <a:ext cx="3043440" cy="1889640"/>
              <a:chOff x="1222200" y="4103280"/>
              <a:chExt cx="3043440" cy="1889640"/>
            </a:xfrm>
          </p:grpSpPr>
          <p:pic>
            <p:nvPicPr>
              <p:cNvPr id="1049" name="对象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22200" y="4103280"/>
                <a:ext cx="2053800" cy="8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矩形 7"/>
              <p:cNvSpPr/>
              <p:nvPr/>
            </p:nvSpPr>
            <p:spPr>
              <a:xfrm>
                <a:off x="2080800" y="5329440"/>
                <a:ext cx="179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答：这根竹竿全长       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1" name="对象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807000" y="5127480"/>
                <a:ext cx="458640" cy="865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2" name="对象 9" descr=""/>
            <p:cNvPicPr/>
            <p:nvPr/>
          </p:nvPicPr>
          <p:blipFill>
            <a:blip r:embed="rId6"/>
            <a:stretch/>
          </p:blipFill>
          <p:spPr>
            <a:xfrm>
              <a:off x="3634200" y="4076640"/>
              <a:ext cx="259344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4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5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8" name="矩形 19"/>
          <p:cNvSpPr/>
          <p:nvPr/>
        </p:nvSpPr>
        <p:spPr>
          <a:xfrm>
            <a:off x="736560" y="191448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你能很快计算出下面算式的结果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9" name="对象 2" descr=""/>
          <p:cNvPicPr/>
          <p:nvPr/>
        </p:nvPicPr>
        <p:blipFill>
          <a:blip r:embed="rId2"/>
          <a:stretch/>
        </p:blipFill>
        <p:spPr>
          <a:xfrm>
            <a:off x="1700280" y="2816280"/>
            <a:ext cx="3448080" cy="830160"/>
          </a:xfrm>
          <a:prstGeom prst="rect">
            <a:avLst/>
          </a:prstGeom>
          <a:ln w="0">
            <a:noFill/>
          </a:ln>
        </p:spPr>
      </p:pic>
      <p:pic>
        <p:nvPicPr>
          <p:cNvPr id="1060" name="对象 3" descr=""/>
          <p:cNvPicPr/>
          <p:nvPr/>
        </p:nvPicPr>
        <p:blipFill>
          <a:blip r:embed="rId3"/>
          <a:stretch/>
        </p:blipFill>
        <p:spPr>
          <a:xfrm>
            <a:off x="1584360" y="3900600"/>
            <a:ext cx="246204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07:25:55Z</dcterms:modified>
  <cp:revision>1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